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3C57-8C00-4449-9682-B8FF81FCF3F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8F2-F568-4E27-AE9F-6CC0F5F228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7CE-B782-4D32-AA0F-74717B4E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90B-CD95-478B-A98C-ED48A7D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E54-1188-49FC-9001-A500328A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96C-6785-490A-AEBD-F90D6FE7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902-04FF-4683-955F-653F4F9F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CC5-52D1-43FF-9CFA-8A0396BF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E14-DBE3-4B78-B025-3B5D80B4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728-B78E-46E6-BBFB-97F6008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16C-7FD6-46C2-8858-A6971628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E11-21C6-4364-9D92-DAFE75C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E32-4BAD-442C-AB3E-A131C02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74D-DF29-4659-B0C0-34D24D4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CF8-6433-499D-9E96-473B3DC207E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Bolilla 8: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¿Como actúa la peps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TUA SOBRE GRUPOS AMINOS DE Aac AROMATICOS (Triptofano, fenilalanina, tiros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   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5"/>
          <p:cNvSpPr/>
          <p:nvPr/>
        </p:nvSpPr>
        <p:spPr>
          <a:xfrm>
            <a:off x="2557440" y="2649600"/>
            <a:ext cx="71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upo 20"/>
          <p:cNvGrpSpPr/>
          <p:nvPr/>
        </p:nvGrpSpPr>
        <p:grpSpPr>
          <a:xfrm>
            <a:off x="4716360" y="2538360"/>
            <a:ext cx="727200" cy="144360"/>
            <a:chOff x="4716360" y="2538360"/>
            <a:chExt cx="727200" cy="144360"/>
          </a:xfrm>
        </p:grpSpPr>
        <p:sp>
          <p:nvSpPr>
            <p:cNvPr id="159" name="Línea 6"/>
            <p:cNvSpPr/>
            <p:nvPr/>
          </p:nvSpPr>
          <p:spPr>
            <a:xfrm>
              <a:off x="4724280" y="268272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ínea 7"/>
            <p:cNvSpPr/>
            <p:nvPr/>
          </p:nvSpPr>
          <p:spPr>
            <a:xfrm>
              <a:off x="4716360" y="2538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Línea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ínea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ipse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rma libre 11"/>
          <p:cNvSpPr/>
          <p:nvPr/>
        </p:nvSpPr>
        <p:spPr>
          <a:xfrm rot="16200000">
            <a:off x="3347280" y="4796280"/>
            <a:ext cx="1297080" cy="28908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rma libre 12"/>
          <p:cNvSpPr/>
          <p:nvPr/>
        </p:nvSpPr>
        <p:spPr>
          <a:xfrm rot="5017800">
            <a:off x="2302200" y="4766400"/>
            <a:ext cx="1373040" cy="27612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uadro de texto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uadro de texto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uadro de texto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adro de texto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adro de texto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21"/>
          <p:cNvSpPr/>
          <p:nvPr/>
        </p:nvSpPr>
        <p:spPr>
          <a:xfrm>
            <a:off x="2411280" y="5229360"/>
            <a:ext cx="2160720" cy="252360"/>
          </a:xfrm>
          <a:custGeom>
            <a:avLst/>
            <a:gdLst/>
            <a:ahLst/>
            <a:rect l="l" t="t" r="r" b="b"/>
            <a:pathLst>
              <a:path w="1361" h="159">
                <a:moveTo>
                  <a:pt x="0" y="114"/>
                </a:moveTo>
                <a:cubicBezTo>
                  <a:pt x="72" y="76"/>
                  <a:pt x="144" y="38"/>
                  <a:pt x="318" y="23"/>
                </a:cubicBezTo>
                <a:cubicBezTo>
                  <a:pt x="492" y="8"/>
                  <a:pt x="869" y="0"/>
                  <a:pt x="1043" y="23"/>
                </a:cubicBezTo>
                <a:cubicBezTo>
                  <a:pt x="1217" y="46"/>
                  <a:pt x="1308" y="136"/>
                  <a:pt x="1361" y="15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uadro de texto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forma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uadro de texto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élula 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istam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ast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ínea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uadro de texto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1 CuadroTexto"/>
          <p:cNvSpPr/>
          <p:nvPr/>
        </p:nvSpPr>
        <p:spPr>
          <a:xfrm>
            <a:off x="3254400" y="37101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uadro de texto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adro de texto 5"/>
          <p:cNvSpPr/>
          <p:nvPr/>
        </p:nvSpPr>
        <p:spPr>
          <a:xfrm>
            <a:off x="3492360" y="4149720"/>
            <a:ext cx="288000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angre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ancreozimina 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adro de texto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uadro de texto 7"/>
          <p:cNvSpPr/>
          <p:nvPr/>
        </p:nvSpPr>
        <p:spPr>
          <a:xfrm>
            <a:off x="611280" y="4365720"/>
            <a:ext cx="216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en el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uadro de texto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adro de texto 9"/>
          <p:cNvSpPr/>
          <p:nvPr/>
        </p:nvSpPr>
        <p:spPr>
          <a:xfrm>
            <a:off x="6985080" y="4437000"/>
            <a:ext cx="1908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s pancre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forma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forma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forma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forma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ínea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uadro de texto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1 CuadroTexto"/>
          <p:cNvSpPr/>
          <p:nvPr/>
        </p:nvSpPr>
        <p:spPr>
          <a:xfrm>
            <a:off x="587160" y="1847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ómago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CuadroTexto"/>
          <p:cNvSpPr/>
          <p:nvPr/>
        </p:nvSpPr>
        <p:spPr>
          <a:xfrm>
            <a:off x="6467040" y="1763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ánc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4095000" y="1857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I) En Duod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ínea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ínea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ínea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ínea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uadro de texto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adro de texto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uadro de texto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adro de texto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uadro de texto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nteropeptid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adro de texto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uadro de texto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Quimotripsina 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adro de texto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uadro de texto 28"/>
          <p:cNvSpPr/>
          <p:nvPr/>
        </p:nvSpPr>
        <p:spPr>
          <a:xfrm>
            <a:off x="6315120" y="5797440"/>
            <a:ext cx="1512720" cy="540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forma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adro de texto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lipse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lipse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CuadroTexto"/>
          <p:cNvSpPr/>
          <p:nvPr/>
        </p:nvSpPr>
        <p:spPr>
          <a:xfrm>
            <a:off x="2124720" y="2308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utocat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¿QUE TIPO DE ENLACES PEPTIDICOS HIDROLIZ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ipsina (endopeptidasa) : grupos carbonilos de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Quimotripsina (endopeptidasa) grupos carboxilos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250920" y="3105000"/>
            <a:ext cx="187308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ELULAS (intestinales, renales, hepática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2700360" y="2781360"/>
            <a:ext cx="21607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porte  Mediado 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627280" y="4869000"/>
            <a:ext cx="2448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5041800" y="1854360"/>
            <a:ext cx="3959280" cy="3003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1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neutros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pequeños: Alanina, se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Aa. neutros y aromáticos grandes: isoleucina, tiros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2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básic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Argin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3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Aminoácidos 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4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</a:rPr>
              <a:t>Imino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: Pr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ínea 9"/>
          <p:cNvSpPr/>
          <p:nvPr/>
        </p:nvSpPr>
        <p:spPr>
          <a:xfrm flipV="1">
            <a:off x="2268360" y="3573360"/>
            <a:ext cx="129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287800" y="4240800"/>
            <a:ext cx="12567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1 Rectángulo"/>
          <p:cNvSpPr/>
          <p:nvPr/>
        </p:nvSpPr>
        <p:spPr>
          <a:xfrm>
            <a:off x="14400" y="5589720"/>
            <a:ext cx="89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os aminoácidos absorbidos son transportados como aminoácidos libres por la sangre principalmente hacia el hígado, que es el sitio primario del metabolismo de los aminoácidos y a otros órganos o tejidos para su utiliz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tribución de los aminoácidos en el período postpran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77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tamina y Asparagin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Intestino y riñ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minoácidos de cadena ramificad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Músculo y cere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mayor parte de los aminoácidos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Hí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1044000" y="1887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Ri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766200" y="522936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lutamil- ciclotransfer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822960" y="41497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Gasto: 3 AT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6 CuadroTexto"/>
          <p:cNvSpPr/>
          <p:nvPr/>
        </p:nvSpPr>
        <p:spPr>
          <a:xfrm>
            <a:off x="6172200" y="207180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Mayor actividad en plasma en obstrucción biliar o daño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8 Conector recto de flecha"/>
          <p:cNvCxnSpPr/>
          <p:nvPr/>
        </p:nvCxnSpPr>
        <p:spPr>
          <a:xfrm flipH="1">
            <a:off x="5148000" y="2809440"/>
            <a:ext cx="12247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1 CuadroTexto"/>
          <p:cNvSpPr/>
          <p:nvPr/>
        </p:nvSpPr>
        <p:spPr>
          <a:xfrm>
            <a:off x="5824080" y="6118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4123080" y="255600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Calibri"/>
              </a:rPr>
              <a:t>Todos (-prolin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Rectángulo"/>
          <p:cNvSpPr/>
          <p:nvPr/>
        </p:nvSpPr>
        <p:spPr>
          <a:xfrm>
            <a:off x="395280" y="404640"/>
            <a:ext cx="8353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s proteínas endógenas cuando han cumplido su ciclo vital o sufren alteraciones por compuestos tóxicos, como radicales libres, metales pesados, etc., se degrad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ciclo vital depende de la vida media de la proteína; por ejemplo existen proteín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cort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hormonas, antígenos, etc.) y otr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larg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proteínas estructurale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Una vez degradadas, sus aminoácidos pasan a formar parte de la reserva de aminoácidos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GRADACION DE PROTEINAS ENDO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22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lisosomales ó CATEPS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o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LPA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SP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uadro de texto 5"/>
          <p:cNvSpPr/>
          <p:nvPr/>
        </p:nvSpPr>
        <p:spPr>
          <a:xfrm>
            <a:off x="4095720" y="1706400"/>
            <a:ext cx="4248360" cy="110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extracelulares que ingresan por endocit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de vida media l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uadro de texto 6"/>
          <p:cNvSpPr/>
          <p:nvPr/>
        </p:nvSpPr>
        <p:spPr>
          <a:xfrm>
            <a:off x="4056120" y="3068640"/>
            <a:ext cx="4327560" cy="11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mplejos multienzimá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gradan proteínas de vida media cor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adro de texto 8"/>
          <p:cNvSpPr/>
          <p:nvPr/>
        </p:nvSpPr>
        <p:spPr>
          <a:xfrm>
            <a:off x="4119480" y="4371840"/>
            <a:ext cx="4537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citosólicas activadas por Ca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adro de texto 9"/>
          <p:cNvSpPr/>
          <p:nvPr/>
        </p:nvSpPr>
        <p:spPr>
          <a:xfrm>
            <a:off x="4135320" y="5153040"/>
            <a:ext cx="424836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que participan en el proceso de muerte celular programada ó apop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260280"/>
            <a:ext cx="87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desempeñan muchas funciones importantes en los seres vivos ya que participan en la biosíntesis de compuestos nitrogenados tales com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ucleótidos (púricos y pirimidínic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ormonas  (tiroxina y adrenal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enzim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fir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as moléculas extraordinarias cumplen diferentes funciones dependiendo del tejido y de la ubicación celular, por ejempl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ructurales (colágeno o elast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ales (Miosina del músculo, hemoglob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tectoras (queratina del pelo y uña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atalíticas (enzima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534960" y="6922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son las unidades estructurales de las 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8496000" cy="57261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alibri"/>
              </a:rPr>
              <a:t>Principal vía de proteólisis selectiva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: las moléculas a degradar son «marcadas» por inserción de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Ubiquitina (U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6494400" y="220500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Lig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653880" y="595008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tea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2050920" y="3573360"/>
            <a:ext cx="217440" cy="30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 CuadroTexto"/>
          <p:cNvSpPr/>
          <p:nvPr/>
        </p:nvSpPr>
        <p:spPr>
          <a:xfrm>
            <a:off x="4583520" y="435600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4 ANILL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ON 7 SUBUNIDA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3 Conector recto de flecha"/>
          <p:cNvCxnSpPr/>
          <p:nvPr/>
        </p:nvCxnSpPr>
        <p:spPr>
          <a:xfrm>
            <a:off x="5748120" y="4814640"/>
            <a:ext cx="68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4 CuadroTexto"/>
          <p:cNvSpPr/>
          <p:nvPr/>
        </p:nvSpPr>
        <p:spPr>
          <a:xfrm>
            <a:off x="5752440" y="455616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ATPa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5 CuadroTexto"/>
          <p:cNvSpPr/>
          <p:nvPr/>
        </p:nvSpPr>
        <p:spPr>
          <a:xfrm>
            <a:off x="5060880" y="50054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Ub hidrolas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86440"/>
          </a:xfrm>
          <a:prstGeom prst="rect">
            <a:avLst/>
          </a:prstGeom>
          <a:ln w="0">
            <a:noFill/>
          </a:ln>
        </p:spPr>
      </p:pic>
      <p:sp>
        <p:nvSpPr>
          <p:cNvPr id="253" name="1 CuadroTexto"/>
          <p:cNvSpPr/>
          <p:nvPr/>
        </p:nvSpPr>
        <p:spPr>
          <a:xfrm>
            <a:off x="1126440" y="44337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4 anillos con 7 subun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661440" y="374796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AT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4 CuadroTexto"/>
          <p:cNvSpPr/>
          <p:nvPr/>
        </p:nvSpPr>
        <p:spPr>
          <a:xfrm>
            <a:off x="7101720" y="4064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UB hidro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7099920" y="51372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Pept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3280" cy="532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11360" y="115920"/>
            <a:ext cx="7937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Biosíntesi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Proteínas, Compuestos no proteic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tención de Ener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forma 4"/>
          <p:cNvSpPr/>
          <p:nvPr/>
        </p:nvSpPr>
        <p:spPr>
          <a:xfrm>
            <a:off x="3348000" y="299556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uadro de texto 5"/>
          <p:cNvSpPr/>
          <p:nvPr/>
        </p:nvSpPr>
        <p:spPr>
          <a:xfrm>
            <a:off x="826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os aminoácidos deben degrada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forma 6"/>
          <p:cNvSpPr/>
          <p:nvPr/>
        </p:nvSpPr>
        <p:spPr>
          <a:xfrm>
            <a:off x="3351240" y="4511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uadro de texto 7"/>
          <p:cNvSpPr/>
          <p:nvPr/>
        </p:nvSpPr>
        <p:spPr>
          <a:xfrm>
            <a:off x="611280" y="5342040"/>
            <a:ext cx="6337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1º) Pérdida del Grupo Am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</a:rPr>
              <a:t>2º) Degradación de la cadena carbo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Fórmula de AA"/>
          <p:cNvPicPr/>
          <p:nvPr/>
        </p:nvPicPr>
        <p:blipFill>
          <a:blip r:embed="rId1"/>
          <a:stretch/>
        </p:blipFill>
        <p:spPr>
          <a:xfrm>
            <a:off x="6781680" y="3292560"/>
            <a:ext cx="2362320" cy="2049480"/>
          </a:xfrm>
          <a:prstGeom prst="rect">
            <a:avLst/>
          </a:prstGeom>
          <a:ln w="0">
            <a:noFill/>
          </a:ln>
        </p:spPr>
      </p:pic>
      <p:sp>
        <p:nvSpPr>
          <p:cNvPr id="266" name="1 Rectángulo"/>
          <p:cNvSpPr/>
          <p:nvPr/>
        </p:nvSpPr>
        <p:spPr>
          <a:xfrm>
            <a:off x="6888960" y="3603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3 Conector recto de flecha"/>
          <p:cNvCxnSpPr/>
          <p:nvPr/>
        </p:nvCxnSpPr>
        <p:spPr>
          <a:xfrm>
            <a:off x="7216920" y="3860280"/>
            <a:ext cx="451440" cy="23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n reacciones metabólicas acop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9"/>
          <p:cNvSpPr/>
          <p:nvPr/>
        </p:nvSpPr>
        <p:spPr>
          <a:xfrm>
            <a:off x="596880" y="189000"/>
            <a:ext cx="7921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Reacción de Transaminación: Esquema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magen 10" descr="sp7111"/>
          <p:cNvPicPr/>
          <p:nvPr/>
        </p:nvPicPr>
        <p:blipFill>
          <a:blip r:embed="rId1"/>
          <a:srcRect l="0" t="0" r="0" b="18499"/>
          <a:stretch/>
        </p:blipFill>
        <p:spPr>
          <a:xfrm>
            <a:off x="755640" y="836640"/>
            <a:ext cx="7763040" cy="2951280"/>
          </a:xfrm>
          <a:prstGeom prst="rect">
            <a:avLst/>
          </a:prstGeom>
          <a:ln w="0">
            <a:noFill/>
          </a:ln>
        </p:spPr>
      </p:pic>
      <p:sp>
        <p:nvSpPr>
          <p:cNvPr id="272" name="Cuadro de texto 11"/>
          <p:cNvSpPr/>
          <p:nvPr/>
        </p:nvSpPr>
        <p:spPr>
          <a:xfrm>
            <a:off x="404640" y="3789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L-Glutam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- cetoácido      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L- 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 Rectángulo"/>
          <p:cNvSpPr/>
          <p:nvPr/>
        </p:nvSpPr>
        <p:spPr>
          <a:xfrm>
            <a:off x="-28440" y="4797360"/>
            <a:ext cx="91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En las reacciones de transaminación ocurre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transferenc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de un grupo amino desde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-aminoácido dador a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-cetoácido acep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Las enzimas que catalizan estas reacciones se denominan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AMINOTRANSFER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TRANSAMIN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Estas enzimas son de naturaleza ubicua, están presentes tanto en el citosol como en las mitocondrias de las células de todos los seres vivos, animales y veget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2 Rectángulo"/>
          <p:cNvSpPr/>
          <p:nvPr/>
        </p:nvSpPr>
        <p:spPr>
          <a:xfrm>
            <a:off x="2392920" y="272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Rectángulo"/>
          <p:cNvSpPr/>
          <p:nvPr/>
        </p:nvSpPr>
        <p:spPr>
          <a:xfrm>
            <a:off x="3346560" y="1773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amin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5 Rectángulo"/>
          <p:cNvSpPr/>
          <p:nvPr/>
        </p:nvSpPr>
        <p:spPr>
          <a:xfrm>
            <a:off x="3128040" y="214164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osfato de piridox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(Vitamina B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6 Rectángulo"/>
          <p:cNvSpPr/>
          <p:nvPr/>
        </p:nvSpPr>
        <p:spPr>
          <a:xfrm>
            <a:off x="2887560" y="417528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Glutamato Amino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versible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y son muy importantes en el metabolismo prote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Todos los aminoácidos (excepto serina y treonina) participan en reacciones de transaminación con los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α-cetoácido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:  piruvato                                  alanina                             oxalacetato                            aspartato                              α-cetoglutarato                     glutamat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ínea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ínea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ínea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ínea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ínea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ínea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upo 9" descr=""/>
          <p:cNvPicPr/>
          <p:nvPr/>
        </p:nvPicPr>
        <p:blipFill>
          <a:blip r:embed="rId1"/>
          <a:stretch/>
        </p:blipFill>
        <p:spPr>
          <a:xfrm>
            <a:off x="195120" y="1773360"/>
            <a:ext cx="8753760" cy="4895640"/>
          </a:xfrm>
          <a:prstGeom prst="rect">
            <a:avLst/>
          </a:prstGeom>
          <a:ln w="0">
            <a:noFill/>
          </a:ln>
        </p:spPr>
      </p:pic>
      <p:sp>
        <p:nvSpPr>
          <p:cNvPr id="286" name="Cuadro de texto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GPT (Glutámico Pirúvico Transamin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GOT (Glutámico Oxalacetico Transamin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AMINASAS DE INTERES CLI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farto de Miocardi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Oxalacet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OT)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o Aspartato aminotransferasa (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da en afecciones cardíacas y hepáticas (principalmente  hepatitis con necr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fecciones Hepáticas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Pirúv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PT)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o Alanina aminotransferasa (A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os mayores aumento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e producen como consecuencia de alteraciones hepática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lestasis, hepatitis tóxicas o vi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lación Normal: GOT/GPT = 1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CIENTE DE 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Hepatitis alcohólicas c/necrosis de tejido: GOT/GPT&gt;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2920" y="620640"/>
            <a:ext cx="8707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43000" y="1047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recambio de las proteínas puede ocurrir por varias caus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la proteína ha cumplido su ciclo vita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ha sufrido un efecto deletéreo que provoca la destrucción de la misma 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caso de ciertas enfermedades en las cuales la célula debe utilizar proteínas para cumplir funciones energétic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oda proteína tiene un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VIDA MEDI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determinada tras la cual se destruye por diferentes tipos de mecanismos en los cuales intervienen enzimas proteolít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proteínas que forman parte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mbra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 una vida media de me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quellas que cumplen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nciones de regulación ó señaliz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n una vida media corta, de minutos u ho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Imagen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2" name="Cuadro de texto 10"/>
          <p:cNvSpPr/>
          <p:nvPr/>
        </p:nvSpPr>
        <p:spPr>
          <a:xfrm>
            <a:off x="106200" y="5958000"/>
            <a:ext cx="892836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  +  NAD(P)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ínea 11"/>
          <p:cNvSpPr/>
          <p:nvPr/>
        </p:nvSpPr>
        <p:spPr>
          <a:xfrm>
            <a:off x="3533760" y="6100920"/>
            <a:ext cx="1120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adro de texto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Imagen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6" name="Línea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ínea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adro de texto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adro de texto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ínea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ínea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ínea 21"/>
          <p:cNvSpPr/>
          <p:nvPr/>
        </p:nvSpPr>
        <p:spPr>
          <a:xfrm flipH="1" flipV="1">
            <a:off x="3533760" y="6189480"/>
            <a:ext cx="10368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 Rectángulo"/>
          <p:cNvSpPr/>
          <p:nvPr/>
        </p:nvSpPr>
        <p:spPr>
          <a:xfrm>
            <a:off x="3600360" y="5581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+ G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Rectángulo"/>
          <p:cNvSpPr/>
          <p:nvPr/>
        </p:nvSpPr>
        <p:spPr>
          <a:xfrm>
            <a:off x="17640" y="3564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L-glutamato que contiene los grupos aminos provenientes de las reacciones anteriormente descriptas ingresa a 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</a:rPr>
              <a:t>mitocondr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 a través de transportadores y puede eliminar el grupo amino proveniente del aminoácido inicial a través de una reacción de  desaminación oxidativa, que se considera como la principal vía de salida del amonía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+ )  ADP Y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- ) ATP Y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cetoglutarato al cicl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r el contrario, cuando aumentan los niveles de ADP y GDP se activa la enzima y de esa forma se produce NADH que es utilizado para la síntesis de ATP e ingresa el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α-cetoglutarato  al Ciclo de Kreb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 una enzima mitocondrial (hígado y riñó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uadro de texto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GD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368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DESAMINACION</a:t>
            </a:r>
            <a:br>
              <a:rPr sz="2800"/>
            </a:b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Es el mecanismo general de desaminación de los aminoácidos, resultante del acoplamiento de las dos enzimas: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transaminasa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glutámico deshidroge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uadro de texto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uadro de texto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forma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uadro de texto 7"/>
          <p:cNvSpPr/>
          <p:nvPr/>
        </p:nvSpPr>
        <p:spPr>
          <a:xfrm>
            <a:off x="2916360" y="6165720"/>
            <a:ext cx="3889080" cy="368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IMACION DEL GRUPO AM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adro de texto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uadro de texto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adro de texto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uadro de texto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adro de texto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uadro de texto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forma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forma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forma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forma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adro de texto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N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s-ES" sz="2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adro de texto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voproteínas que producen desaminación oxidativa de los isómeros D- de los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Imagen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93080" cy="207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663300"/>
            </a:outerShdw>
          </a:effectLst>
        </p:spPr>
      </p:pic>
      <p:sp>
        <p:nvSpPr>
          <p:cNvPr id="328" name="Cuadro de texto 6"/>
          <p:cNvSpPr/>
          <p:nvPr/>
        </p:nvSpPr>
        <p:spPr>
          <a:xfrm>
            <a:off x="611280" y="5362560"/>
            <a:ext cx="75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tas flavoproteínas se encuentran en los  peroxisomas junto con las cata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uadro de texto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Los D-Aminoácidos utilizan enzimas cuya coenzima es el F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Cuadro de texto 8"/>
          <p:cNvSpPr/>
          <p:nvPr/>
        </p:nvSpPr>
        <p:spPr>
          <a:xfrm>
            <a:off x="4060800" y="38847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atala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ACCIONES DE DESAMINACIO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Ser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Piruvato  +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Treon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Treon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- cetobutirato  + 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ínea 5"/>
          <p:cNvSpPr/>
          <p:nvPr/>
        </p:nvSpPr>
        <p:spPr>
          <a:xfrm>
            <a:off x="3191040" y="2781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ínea 6"/>
          <p:cNvSpPr/>
          <p:nvPr/>
        </p:nvSpPr>
        <p:spPr>
          <a:xfrm>
            <a:off x="3419640" y="50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adro de texto 7"/>
          <p:cNvSpPr/>
          <p:nvPr/>
        </p:nvSpPr>
        <p:spPr>
          <a:xfrm>
            <a:off x="2995560" y="2427120"/>
            <a:ext cx="164484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adro de texto 7"/>
          <p:cNvSpPr/>
          <p:nvPr/>
        </p:nvSpPr>
        <p:spPr>
          <a:xfrm>
            <a:off x="3130560" y="4653000"/>
            <a:ext cx="164628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Ó  ION AMONIO ES TO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Lucida Sans"/>
              </a:rPr>
              <a:t>CLASIFICACIÓN de AMINOÁ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5040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if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glicina, alanina, valina, leucina, isoleuc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idroxia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erina y tre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icarboxílicos y sus amin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ácido aspártico y asparagina, ácido glutámico y glutam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ás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: lisina, arginina, histid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rom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fenilalanina, tirosina, triptó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zuf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cisteína, meti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prolina, hidroxipro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http://bifi.es/jsancho/estructuramacromoleculas/2aminoacidos/clasificacion2.JPG"/>
          <p:cNvPicPr/>
          <p:nvPr/>
        </p:nvPicPr>
        <p:blipFill>
          <a:blip r:embed="rId1"/>
          <a:stretch/>
        </p:blipFill>
        <p:spPr>
          <a:xfrm>
            <a:off x="179280" y="176040"/>
            <a:ext cx="87980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ángulo 35"/>
          <p:cNvSpPr/>
          <p:nvPr/>
        </p:nvSpPr>
        <p:spPr>
          <a:xfrm>
            <a:off x="324000" y="402840"/>
            <a:ext cx="8496000" cy="869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</a:rPr>
              <a:t>Fuentes ex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</a:rPr>
              <a:t>Fuentes end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(aprox.70 g/ día)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(aprox. 140 g/ dí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Proteínas de la dieta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                                       Proteínas tis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4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ínea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ángulo 48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igestión y absorción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forma 49"/>
          <p:cNvSpPr/>
          <p:nvPr/>
        </p:nvSpPr>
        <p:spPr>
          <a:xfrm>
            <a:off x="2797200" y="221760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3300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forma 53"/>
          <p:cNvSpPr/>
          <p:nvPr/>
        </p:nvSpPr>
        <p:spPr>
          <a:xfrm flipH="1" rot="16200000">
            <a:off x="6371280" y="2419920"/>
            <a:ext cx="459000" cy="457200"/>
          </a:xfrm>
          <a:custGeom>
            <a:avLst/>
            <a:gdLst>
              <a:gd name="textAreaLeft" fmla="*/ -360 w 459000"/>
              <a:gd name="textAreaRight" fmla="*/ 405720 w 45900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forma 54"/>
          <p:cNvSpPr/>
          <p:nvPr/>
        </p:nvSpPr>
        <p:spPr>
          <a:xfrm rot="5400000">
            <a:off x="1475640" y="2421720"/>
            <a:ext cx="458640" cy="457200"/>
          </a:xfrm>
          <a:custGeom>
            <a:avLst/>
            <a:gdLst>
              <a:gd name="textAreaLeft" fmla="*/ 0 w 458640"/>
              <a:gd name="textAreaRight" fmla="*/ 406080 w 45864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upo 55"/>
          <p:cNvGrpSpPr/>
          <p:nvPr/>
        </p:nvGrpSpPr>
        <p:grpSpPr>
          <a:xfrm>
            <a:off x="2276640" y="3208320"/>
            <a:ext cx="4327200" cy="1336680"/>
            <a:chOff x="2276640" y="3208320"/>
            <a:chExt cx="4327200" cy="1336680"/>
          </a:xfrm>
        </p:grpSpPr>
        <p:sp>
          <p:nvSpPr>
            <p:cNvPr id="65" name="Rectángulo 56"/>
            <p:cNvSpPr/>
            <p:nvPr/>
          </p:nvSpPr>
          <p:spPr>
            <a:xfrm>
              <a:off x="2276640" y="3515400"/>
              <a:ext cx="4327200" cy="572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ínea 57"/>
            <p:cNvSpPr/>
            <p:nvPr/>
          </p:nvSpPr>
          <p:spPr>
            <a:xfrm>
              <a:off x="4470120" y="320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forma 58"/>
            <p:cNvSpPr/>
            <p:nvPr/>
          </p:nvSpPr>
          <p:spPr>
            <a:xfrm rot="5400000">
              <a:off x="493308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forma 59"/>
            <p:cNvSpPr/>
            <p:nvPr/>
          </p:nvSpPr>
          <p:spPr>
            <a:xfrm flipH="1" rot="16200000">
              <a:off x="348984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ángulo 60"/>
          <p:cNvSpPr/>
          <p:nvPr/>
        </p:nvSpPr>
        <p:spPr>
          <a:xfrm>
            <a:off x="2371680" y="3631680"/>
            <a:ext cx="4006800" cy="366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Transaminación y/ó Desaminación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ínea 62"/>
          <p:cNvSpPr/>
          <p:nvPr/>
        </p:nvSpPr>
        <p:spPr>
          <a:xfrm flipH="1">
            <a:off x="1042560" y="534816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ínea 61"/>
          <p:cNvSpPr/>
          <p:nvPr/>
        </p:nvSpPr>
        <p:spPr>
          <a:xfrm>
            <a:off x="2641680" y="5346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3"/>
          <p:cNvSpPr/>
          <p:nvPr/>
        </p:nvSpPr>
        <p:spPr>
          <a:xfrm>
            <a:off x="826920" y="4729320"/>
            <a:ext cx="7921800" cy="59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Degrad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ángulo 64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65"/>
          <p:cNvSpPr/>
          <p:nvPr/>
        </p:nvSpPr>
        <p:spPr>
          <a:xfrm>
            <a:off x="482760" y="5805720"/>
            <a:ext cx="31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α - cetoácidos   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Amonía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ángulo 68"/>
          <p:cNvSpPr/>
          <p:nvPr/>
        </p:nvSpPr>
        <p:spPr>
          <a:xfrm>
            <a:off x="5510160" y="5301720"/>
            <a:ext cx="10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ángulo 70"/>
          <p:cNvSpPr/>
          <p:nvPr/>
        </p:nvSpPr>
        <p:spPr>
          <a:xfrm>
            <a:off x="5154120" y="5589720"/>
            <a:ext cx="28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s No esenci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ángulo 71"/>
          <p:cNvSpPr/>
          <p:nvPr/>
        </p:nvSpPr>
        <p:spPr>
          <a:xfrm>
            <a:off x="5079240" y="5877000"/>
            <a:ext cx="326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stituyentes nitrogenados n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ángulo 72"/>
          <p:cNvSpPr/>
          <p:nvPr/>
        </p:nvSpPr>
        <p:spPr>
          <a:xfrm>
            <a:off x="5011200" y="6092280"/>
            <a:ext cx="311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oteicos: purinas, pirimidin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ángulo 73"/>
          <p:cNvSpPr/>
          <p:nvPr/>
        </p:nvSpPr>
        <p:spPr>
          <a:xfrm>
            <a:off x="5075280" y="635328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orfirina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ángulo 74"/>
          <p:cNvSpPr/>
          <p:nvPr/>
        </p:nvSpPr>
        <p:spPr>
          <a:xfrm>
            <a:off x="6177600" y="635328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ácidos biliare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8" descr=""/>
          <p:cNvPicPr/>
          <p:nvPr/>
        </p:nvPicPr>
        <p:blipFill>
          <a:blip r:embed="rId2"/>
          <a:stretch/>
        </p:blipFill>
        <p:spPr>
          <a:xfrm>
            <a:off x="7051680" y="2827440"/>
            <a:ext cx="1928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 de texto 12"/>
          <p:cNvSpPr/>
          <p:nvPr/>
        </p:nvSpPr>
        <p:spPr>
          <a:xfrm>
            <a:off x="468360" y="549360"/>
            <a:ext cx="201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α - cetoá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 de texto 13"/>
          <p:cNvSpPr/>
          <p:nvPr/>
        </p:nvSpPr>
        <p:spPr>
          <a:xfrm>
            <a:off x="2843280" y="1700280"/>
            <a:ext cx="1152360" cy="3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 de texto 14"/>
          <p:cNvSpPr/>
          <p:nvPr/>
        </p:nvSpPr>
        <p:spPr>
          <a:xfrm>
            <a:off x="250920" y="1844640"/>
            <a:ext cx="136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 de texto 15"/>
          <p:cNvSpPr/>
          <p:nvPr/>
        </p:nvSpPr>
        <p:spPr>
          <a:xfrm>
            <a:off x="3276720" y="3068640"/>
            <a:ext cx="1439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uerpos cetón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 de texto 16"/>
          <p:cNvSpPr/>
          <p:nvPr/>
        </p:nvSpPr>
        <p:spPr>
          <a:xfrm>
            <a:off x="6588000" y="476280"/>
            <a:ext cx="136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moní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 de texto 17"/>
          <p:cNvSpPr/>
          <p:nvPr/>
        </p:nvSpPr>
        <p:spPr>
          <a:xfrm>
            <a:off x="2627280" y="5589720"/>
            <a:ext cx="2232000" cy="34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 +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 – 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 de texto 18"/>
          <p:cNvSpPr/>
          <p:nvPr/>
        </p:nvSpPr>
        <p:spPr>
          <a:xfrm>
            <a:off x="1403280" y="4437000"/>
            <a:ext cx="201636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 de texto 19"/>
          <p:cNvSpPr/>
          <p:nvPr/>
        </p:nvSpPr>
        <p:spPr>
          <a:xfrm>
            <a:off x="611280" y="3213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cetil C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uadro de texto 20"/>
          <p:cNvSpPr/>
          <p:nvPr/>
        </p:nvSpPr>
        <p:spPr>
          <a:xfrm>
            <a:off x="6877080" y="3429000"/>
            <a:ext cx="136836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xcreción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 de texto 21"/>
          <p:cNvSpPr/>
          <p:nvPr/>
        </p:nvSpPr>
        <p:spPr>
          <a:xfrm>
            <a:off x="6659640" y="2060640"/>
            <a:ext cx="1368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ínea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ínea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ínea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ínea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ínea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ínea 31"/>
          <p:cNvSpPr/>
          <p:nvPr/>
        </p:nvSpPr>
        <p:spPr>
          <a:xfrm>
            <a:off x="3276720" y="4869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ínea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ínea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Rectángulo"/>
          <p:cNvSpPr/>
          <p:nvPr/>
        </p:nvSpPr>
        <p:spPr>
          <a:xfrm>
            <a:off x="4890960" y="4454640"/>
            <a:ext cx="41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 los organismos, el 90% de las necesidades energéticas son cubiertas por los hidratos de carbono y las gras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10% al 15% restante es proporcionado por la oxidación de los aminoáci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1f497d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ángulo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n 6" descr="irma"/>
          <p:cNvPicPr/>
          <p:nvPr/>
        </p:nvPicPr>
        <p:blipFill>
          <a:blip r:embed="rId1"/>
          <a:stretch/>
        </p:blipFill>
        <p:spPr>
          <a:xfrm>
            <a:off x="2050920" y="274680"/>
            <a:ext cx="6985080" cy="650700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Rectángulo"/>
          <p:cNvSpPr/>
          <p:nvPr/>
        </p:nvSpPr>
        <p:spPr>
          <a:xfrm>
            <a:off x="0" y="1417680"/>
            <a:ext cx="21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Digestión y absorción de 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 diferencia de los hidratos de carbono y lípidos una parte significativa de la digestión de proteínas tiene lugar en el estóm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Flecha doblada hacia arriba"/>
          <p:cNvSpPr/>
          <p:nvPr/>
        </p:nvSpPr>
        <p:spPr>
          <a:xfrm>
            <a:off x="8491680" y="1938240"/>
            <a:ext cx="35856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270668"/>
                </a:moveTo>
                <a:lnTo>
                  <a:pt x="224234" y="270668"/>
                </a:lnTo>
                <a:lnTo>
                  <a:pt x="224234" y="89694"/>
                </a:lnTo>
                <a:lnTo>
                  <a:pt x="179388" y="89694"/>
                </a:lnTo>
                <a:lnTo>
                  <a:pt x="269081" y="0"/>
                </a:lnTo>
                <a:lnTo>
                  <a:pt x="358775" y="89694"/>
                </a:lnTo>
                <a:lnTo>
                  <a:pt x="313928" y="89694"/>
                </a:lnTo>
                <a:lnTo>
                  <a:pt x="313928" y="360362"/>
                </a:lnTo>
                <a:lnTo>
                  <a:pt x="0" y="360362"/>
                </a:lnTo>
                <a:lnTo>
                  <a:pt x="0" y="27066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n 6" descr=""/>
          <p:cNvPicPr/>
          <p:nvPr/>
        </p:nvPicPr>
        <p:blipFill>
          <a:blip r:embed="rId2"/>
          <a:stretch/>
        </p:blipFill>
        <p:spPr>
          <a:xfrm>
            <a:off x="8520120" y="1035000"/>
            <a:ext cx="401760" cy="390600"/>
          </a:xfrm>
          <a:prstGeom prst="rect">
            <a:avLst/>
          </a:prstGeom>
          <a:ln w="0">
            <a:noFill/>
          </a:ln>
        </p:spPr>
      </p:pic>
      <p:sp>
        <p:nvSpPr>
          <p:cNvPr id="108" name="3 Rectángulo"/>
          <p:cNvSpPr/>
          <p:nvPr/>
        </p:nvSpPr>
        <p:spPr>
          <a:xfrm>
            <a:off x="7236000" y="6094440"/>
            <a:ext cx="17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  MEDIADO AC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Flecha abajo"/>
          <p:cNvSpPr/>
          <p:nvPr/>
        </p:nvSpPr>
        <p:spPr>
          <a:xfrm>
            <a:off x="8110440" y="595008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ángulo 36"/>
          <p:cNvSpPr/>
          <p:nvPr/>
        </p:nvSpPr>
        <p:spPr>
          <a:xfrm>
            <a:off x="1561680" y="5719680"/>
            <a:ext cx="647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NH</a:t>
            </a:r>
            <a:r>
              <a:rPr b="1" lang="es-ES_tradnl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ángulo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Calibri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alibri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Calibri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resto de 42 A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ínea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) En el estóm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o 48"/>
          <p:cNvGrpSpPr/>
          <p:nvPr/>
        </p:nvGrpSpPr>
        <p:grpSpPr>
          <a:xfrm>
            <a:off x="1550160" y="5229360"/>
            <a:ext cx="4485240" cy="393120"/>
            <a:chOff x="1550160" y="5229360"/>
            <a:chExt cx="4485240" cy="393120"/>
          </a:xfrm>
        </p:grpSpPr>
        <p:sp>
          <p:nvSpPr>
            <p:cNvPr id="115" name="Rectángulo 7"/>
            <p:cNvSpPr/>
            <p:nvPr/>
          </p:nvSpPr>
          <p:spPr>
            <a:xfrm>
              <a:off x="1550160" y="5229360"/>
              <a:ext cx="124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ángulo 8"/>
            <p:cNvSpPr/>
            <p:nvPr/>
          </p:nvSpPr>
          <p:spPr>
            <a:xfrm>
              <a:off x="4504680" y="5256360"/>
              <a:ext cx="15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Enzima activa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ángulo 9"/>
            <p:cNvSpPr/>
            <p:nvPr/>
          </p:nvSpPr>
          <p:spPr>
            <a:xfrm>
              <a:off x="3265200" y="5229360"/>
              <a:ext cx="120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o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19" name="Elipse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Elipse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Elipse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Elipse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Elipse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Elipse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Elipse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Elipse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Elipse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Elipse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Elipse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upo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1" name="Elipse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Elipse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upo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34" name="Elipse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Elipse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Elipse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Elipse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Grupo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0" name="Elipse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Elipse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Elipse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 de texto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uadro de texto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ínea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ínea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adro de texto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adro de texto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forma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forma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46:38Z</dcterms:created>
  <dc:creator>Fanny</dc:creator>
  <dc:description/>
  <dc:language>en-US</dc:language>
  <cp:lastModifiedBy>Preferred Customer</cp:lastModifiedBy>
  <cp:lastPrinted>2012-05-10T20:26:10Z</cp:lastPrinted>
  <dcterms:modified xsi:type="dcterms:W3CDTF">2013-05-07T18:07:07Z</dcterms:modified>
  <cp:revision>115</cp:revision>
  <dc:subject/>
  <dc:title>Presentación de PowerPoint</dc:title>
</cp:coreProperties>
</file>